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4847-4071-47F4-9EDF-BD603B94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6A5-6021-410A-B5C3-745B3793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77881-34A8-4FCE-8B85-428B7A6F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482B4-C901-4892-B31B-0BEC7A9C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33303-60A2-4C07-BE18-FB05C4D5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922F5-9F96-41A4-928C-45778E4D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590C9-6B4E-4D6B-AC92-EF8B5063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0835A-ACD2-46C4-A868-4117356C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1EB9D-8A5F-4AA9-897E-4E5B4B9B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14C60-55CF-4DBF-96D5-68BDABBD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85F39-60F3-4E66-9AEE-CD87D8C8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D44A2-DED3-42E1-AD76-2C7219AC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D4E-CAE6-4E14-9D64-26DD6C76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6E740-A77E-455D-9F93-7737BE73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7058B-1ED6-47FB-AF25-DDEAD904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519A8-D1DF-4502-931F-E3EE9AFC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32A08-BF1A-4550-81AF-49C1763D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04269-DABA-4C51-8D11-1CED57E7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2E652-9742-4347-8E77-DFBFD6E1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FDE46-5DD1-43FD-A90E-CD1E4A62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40F08-11E9-478E-B478-933A7E4E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A6229-02D8-4DF5-AF46-F84762AB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13DD6-FE23-4A03-A95B-144DD946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4F8-6C4E-4059-BD92-1D592975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8E5F0-41F2-438D-A65B-51F96E96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3D42E-D57B-4C5A-A63F-EBC4DEB5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258E4-A67C-4F86-B849-9CA9C89E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35B4D-E41B-4000-B6F5-221D6A33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AD688-DDC4-45AB-9469-D2B67AFE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944DD-32BA-46E7-BCAE-46B445C4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5E2E0-B534-4696-AF43-D0061047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C6101-E8B6-48CD-9857-D6CBD3D8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792F1-B96E-4161-8AE1-14C6B294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FC2A6-5BBA-4558-912F-2CABA812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6531-B273-45E6-B6C9-A54F501D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7F5E7-88BF-4616-8AE6-45D2E020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93761-F2C0-435C-BBB8-C777B520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4AB0C-61D9-4FB2-9970-7DDED995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C910B-72BC-4687-BD1D-E7CC656C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16993-F2BC-4929-BDDE-887FD9D3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C1EF8-21DB-4928-BFF3-A9050B67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D8AD6-0776-4BAD-82E4-269259A0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DC1DE-7389-471A-9428-23F2C7CF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6F67E-1E3B-4E4F-A5DF-2E07160C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71A2E-AA86-4E5D-8BCA-D4C6C6DE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E687-D4BF-4D93-94E3-CF198083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0095E-88D8-40BF-8564-A70AB8FA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5544D-44A5-4C27-8798-74B4FF69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450E3-4F48-4FFC-AE13-05442980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29F44-3128-4C5E-975C-3A7BBE6F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16052-5E16-4244-9A28-EF2DCD5F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F8966-5986-4472-9F23-35285B3A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05688-B368-42CF-B202-924FBE53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076711-8B83-4F1F-BCD3-26B982CC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EC476-A7EF-4852-91FF-862A1603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24BB0-CE1E-49C4-B65A-87B2398E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9CD7-58A7-4F55-A477-70DA2D15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F3AC45-8112-41FF-9ACF-91F6B4A4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1C585-9058-4EBE-BD1D-46332E22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56308-971A-4117-B475-EEE08A19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A4C85E-B923-49B2-B7F0-47F9DAE9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8835F-9CC3-4160-997C-AA94DF4B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6E8AC-CEBF-4EF4-806D-9BF03E2C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ECB33-382C-4B2A-AA69-1B2040BE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381704-EF5A-430F-A04F-0D638901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931494-7B62-4A7B-95E7-0D860456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612E49-3120-4D1A-9CFF-97BEDEFC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C1A5-797C-404E-8B64-9FE612B1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AAE8B3-DDD3-401D-8F40-D152D6B2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0DB49A-A0A7-48AD-9C4A-C5B21B35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AD197-8028-4AC0-A8FF-9501D778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05FBE6-9090-46DB-A014-EFB40553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D59FF8-31E2-442F-B70C-A27F1267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772416-10B6-49E0-BEC2-DBDF9EE9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55F965-CA21-47D2-B2E9-E7FC6C53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9BE574-FEB4-4C84-91CB-94A59EDC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3D5135-B396-44D3-B09B-ABE6AF10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C8BD82-D2E8-4BE9-8886-37138D33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82EF-36CB-492E-9C66-483D38E1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0439FA-AFCC-4325-9E09-7FB193B2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AB42A8-CFBD-4383-853A-DBE46BC9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A8438-D301-4879-AB34-E24602E7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3106E0-B13B-43D9-8E65-76240DEB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AB4536-2655-472F-828E-34157500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6895C6-871D-410A-B007-20625315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4799DC-7964-45D6-BE05-662D8FC4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B24BF1-D4B3-4FB6-B0FE-687B7E9B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403D25-F4A7-47AA-9A76-BE5DAE60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D96E9-9E10-4539-85CB-5558DC91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EE1D-F0FA-4A0E-81D4-450AB1D9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E993DB-8D63-4ACA-B8FD-A47A8570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7648C9-33BD-4983-A7B8-1B4C408B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9C413B-8211-42B6-9042-FE0EE954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CD49E8-3454-4B82-B71D-589794D6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A15096-7769-484E-9A37-96F08D4E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4D501-163E-4D99-A4CC-4C7BE65A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496CD2-0CB6-4A1E-BBA1-2D28A647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C0F13C-9B95-4517-87F6-AC2E666D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5B092-5AEE-47C2-BA29-03DAE0AC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7D327D-1D0B-4606-99F7-7B2C9FA9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FF28-A53D-4508-90A0-9287F20F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C29501-5624-44C1-B7C2-A17C68FD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7C1ACC-2432-4606-A891-998C20DD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81D03C-3122-4497-BFD4-3A084B58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651032-0BA8-4C5C-82BA-00CA3784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CC7761-C018-4702-BE60-E1EC99C8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0C6BA1-B2D4-45D5-81CF-6D2BAA87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E3D646-50A7-4769-9791-BA0EF1E0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4D0E29-8422-4CF9-911B-1C4BD02C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055D94-DB59-4ABA-AD31-CFF611D7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C778E8-461B-40FC-BADB-DB778832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E04E-0A85-414A-A18B-EC5EE6AB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6180-A7A7-45F2-B707-C7B0B20F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51F4B6-573E-4527-9CDC-908BCF5B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5515F5-0DD9-468A-9732-61BF9369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AE68D4-ECD8-46DD-9A80-7403A718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6216E1-F72F-4EC5-9062-60E08C37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0409A0-F78F-470A-8102-67519DA3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4CA106-6A50-48CA-BF3C-46FB0834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CDBD5B-39F1-423F-85FA-B6CECCE7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C78AC5-FB96-4D29-B1BA-6B637DEF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590498-2651-41EB-A4F3-EDB63782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3ADC71-39D0-4272-B72A-85B6D5FA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A3B0-4595-47B7-BF1B-BC9E1611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656E39-513A-4BCB-8311-3D73A885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2306C0-9571-46BE-A8DE-88B8AE58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BD3AEC-2BF9-4726-BD91-C1E336A7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8E7782-C9A5-4E16-9965-B380437D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107DDE-7C84-4248-BEED-4B0B2528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14BC8E-6D01-4F3B-A07E-266D8CA7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612774-E665-483E-A05A-E263AA4B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8A24AD-E92B-49A4-8C9B-814E2E27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7D594A-35DA-48C5-8E92-7D04199C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EBE15F-D102-4C6B-9EA8-C747D6F2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C44C-09C1-4EAF-99F1-BA15BB54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B368F2-7EBE-453B-BECF-16D59B53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7A4D2B-4CE1-4F83-B1B9-0A205744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BB23E5-43E1-4E34-981C-2739683E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7D8A1C-36CD-4EA4-B82D-CC84B7D7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F83C24-2E0E-4A44-9AED-570CFE9F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FC3FC0-6228-42ED-B33C-CE5B9029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B6CFEF-5D97-432A-8B86-38DF2D52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0421E8-B484-4385-9CE7-F03C4EF4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979DE4-1F51-414B-8119-3DB55EE3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C720F9-E13F-4814-A87C-259DD96F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6C8D-D25C-43B4-B822-DD6717A4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E38447-50AF-4BDC-B7BE-BEE3D2BA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09BA5F-EF09-4CA7-A4A3-50A93666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43596D-D3AC-424D-8E21-2323ECFB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C9CADF-C9BA-47A7-A66D-7D57BD47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1E99B3-7239-413F-91BC-6656605C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2901AC-674E-4790-9184-C346AD01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915FE3-6D60-492F-A531-5A7791B3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945F0F-1DA5-41A1-B951-7E2C4D4B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16CD5F-1644-49B8-8915-F4DFF0ED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D8F39F-6E42-4CDC-AAC6-4A8C4381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94FF-9B98-4EAA-B505-96F86C97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469DF1-8C90-4E07-BBC0-8EEEE4F4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0F985E-1146-4992-9788-46A5D816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06E2CF-B265-46CF-AD1C-6F72323C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915BF5-6355-4B52-AA69-A85544AD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FFEF26-52BE-4112-8769-BC3E40F8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11B0AD-1612-4BF1-B218-CF4EECF7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7D5F15-9883-41D1-A821-AFC22C1C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130FC1-3596-4C22-8B16-5C071637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234989-EF10-40FA-A61D-F7CB5203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88A747-ABE8-43CA-9650-3D555ED6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0A55E-167E-4E5A-8504-4D9F1716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1265BA-550F-4886-8E13-AE50FFD6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D899E2-564B-4AE7-9F18-56F84007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2224FE-6976-463A-8037-E754E411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225CF-23F3-42EE-BD1C-D9903D4B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DED99-9ADC-4605-BAD2-504F6B72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92504-AD89-469A-9C3C-4479C971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500C7-CDB9-4821-B916-0B266108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151-7FF1-4470-8EE7-B491E7A7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D0613-58F9-4A77-BBBE-234B2D6A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0B8BC-B94C-490B-AB05-3A472971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31DDE-836B-4E25-B7F1-4AE4259F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9F3DB-B5AA-4A46-85B7-83C849A8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B5F1D-3D25-4D59-9932-1ECE75FF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7DEA5-8501-4278-9DA2-B6D1CA92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88603-20B4-4E21-8FAC-64A93BF2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5CA42-B10B-42E7-B270-4E919FB8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05BC5-0D63-42B8-A04E-4890AFE4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AB545-29F1-4214-94E7-7279FE3E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F24D-74E8-4091-A3B7-8356597A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51980-34A6-4064-9AD7-ECA0906A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EF330-6BC0-4581-B98C-CA1E7BBC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D6534-BBCF-4751-B143-CB771995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5326F-F464-43A4-BCE1-CE5FD7C1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E594A-627D-4C36-8931-F700C295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C1B57-FCDA-4353-BD0F-15B97A0E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898A0-7D90-4E71-8D14-122DEE55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41ABB-186B-458A-B7FF-B7B45161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76865-FE25-4F4A-A9DE-CE0C3FA9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36D4F-A36D-4A45-A2DE-A6A43C06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EF0-7B86-4181-B759-0D1B21C5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0A644-A90E-47D7-828D-9F2B0B44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6747E-6A33-4537-BD2E-B5A02AED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08003-B224-484D-B28D-CF5CE11B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51D20-A0B8-4A4F-8A15-81CDDBCB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FA2F9-B208-4DF7-8B5E-A7A55C8C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3C545-6E6A-4401-9D42-AC7A744D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315E1-67B2-4B9B-AC60-40943140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6C0F7-4FB0-4914-91DF-B5911866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88C28-44B1-403E-8A40-F0C594FB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6F879-9A45-49E8-A6E4-BE4ADFC8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414-2D1B-42BA-A2C8-451E6D6A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80BB9-37AB-4980-BEAB-E83DE581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027AA-4264-4B81-86F2-204CB178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82A5C-A69A-4FB8-915C-982A0228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B7617-AFC1-4E6A-BD0F-AED75CC6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D907A-9DF7-4868-97B3-1590B784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2CFD2-81EB-415F-A3D4-0E1C9B73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5BA80-45A6-431D-A406-722AFC62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037A4-F7C7-4620-BFD3-A25363C2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43BE0-6F1C-4947-BC0C-A8030613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B7040-389E-4DB5-A785-A7F173E8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3ED9-EB05-4746-B19B-E28C3D7F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67888-49DD-49F5-84B0-6E4B9E18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FFF54-C71B-4D7B-A0BD-DF3D5D7C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32035-331D-4329-8A26-EDB602AF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BECA2-CB40-4EE0-962A-8D9FC62D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3F638-983C-4079-9B93-EF34D8BB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7C996-6928-4F77-B24A-58C61951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0493B-4F99-4747-8E6A-764C091A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639EC-38E8-41E0-A848-5969A63E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DC4F5-3C62-474A-8A4D-2E43907A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C0C44-CF18-4CF7-82CE-30F04445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AD0-BE33-46B6-AA38-875F3540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076DF-BC88-44B3-A225-E8689EE6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27B83-930E-48F3-8BA5-7F12100B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64577-6781-42AA-9A6F-2AEDA50E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89489-13EB-42BC-89E6-9E5A8D2A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53D4B-4DCC-4131-905E-F78414ED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C8232-95A9-43BD-A38C-833EE0C7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116D5-E80F-4FEB-A9A9-F1BF4B1B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B25DC-6E22-4FD3-B9BB-4B865C73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61BE9-157F-4B7A-8F24-969D3054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7EAC8-851E-4064-BBE9-57F4BA4F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735-86D1-47D3-AA7C-299004FB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ABB3F-8A19-4DC9-A579-1A7B6863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B64F1-5843-4463-BC32-D96645BD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8926D-17B9-4305-9F01-F6864D44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45226-D873-463A-A5A5-FDFC18E4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75FFC-4D0E-4FC1-8296-889CFA85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53FF3-27AC-47DB-B3F1-753E58BF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9C7B4-F2D2-43BA-9B0C-1ECC20EB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651C6-90B5-4CD6-BE3F-9B379EA7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55C34-A66D-4625-893C-7C765D42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3A9D1-632C-40CB-967C-868DD7D2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53A7-D9BF-45C0-B8EC-A4E8CBF5C7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65D8-60A3-4BD1-A97D-D85D8BD52D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9094-4C06-4D76-AC14-44D5280A35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2634-47A4-4E3D-AB79-531F943F22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B948-E029-46FC-88D0-E9DEC46717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99E9-8737-48ED-A054-2943B11954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CF7C-AC35-4EEA-AD32-BD1959FC48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AF3C-5244-48F7-805D-221CA49354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1BD6-62FE-449E-B7BC-97EB5A1441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B1FA-2FEF-4749-BA6B-03A71048BE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18B9-767B-4053-B22F-533489B806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57D6-C54F-45D0-92FD-500327AD60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77B3-5293-48BE-A15D-1D934770E2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29FA-6244-490C-AEF1-740222EDD1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4C57-DD3F-4B83-A725-F004AEBB46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0BC2-67C1-4908-8576-8D4C16B9C7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C46E-F618-42F4-96D1-C4CC66B2D0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2C53-D5FF-420D-AB4D-66CAFC7E1C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7912-5FE6-426A-88E8-E7E3BE115D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E3CF-CBB6-484D-B4CB-BC8DC51598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6CB5-261A-4380-9DAF-AEA6F1CC52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CC05-C84B-4E1B-A0AD-15293FBEE2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1EEC-780B-46A4-A625-7DD648A34C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C936-D919-4C34-9030-982B15C75A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4B77-D0FA-48F8-8E67-CF5A063F49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8D5D-E6E4-4A01-BA27-58DD06D072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1FAD-0082-42BA-9A30-7888C6B530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035E-F7A0-469D-A913-7BA5BD5C65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0FBE-0213-4287-93F7-97D24E1D26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D18A-C282-4547-9886-B11AA7F5F8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3C6C-2FFC-4AF3-938C-A54808793D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86B2-6CC8-4FB4-97B1-D2CD93BCA3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6D23-011F-4D2F-BBB5-DBFDC266B1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A2CA-3157-4D06-8BE2-37717FE226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28F0-1CBD-41DF-89DC-3B7680A1A6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4AA7-EA10-47DF-9368-C4EAB6C1DC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EF6A-600F-4E0F-9C12-D76D863F70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9E41-47ED-4C27-98E8-2938126597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8E32-B997-4127-B017-031BBDF40D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5114-6960-4100-8722-C140438680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19560" y="1844640"/>
            <a:ext cx="2504880" cy="8380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838080" y="3435480"/>
            <a:ext cx="74678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9633" descr=""/>
          <p:cNvPicPr/>
          <p:nvPr/>
        </p:nvPicPr>
        <p:blipFill>
          <a:blip r:embed="rId1"/>
          <a:stretch/>
        </p:blipFill>
        <p:spPr>
          <a:xfrm>
            <a:off x="1090440" y="1052640"/>
            <a:ext cx="6963120" cy="229536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9634" descr=""/>
          <p:cNvPicPr/>
          <p:nvPr/>
        </p:nvPicPr>
        <p:blipFill>
          <a:blip r:embed="rId2"/>
          <a:stretch/>
        </p:blipFill>
        <p:spPr>
          <a:xfrm>
            <a:off x="590400" y="3645000"/>
            <a:ext cx="7963200" cy="22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4284720" y="162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428472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7093080" y="16574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7093080" y="2276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1936800" y="42498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1936800" y="48690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4716360" y="424980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4716360" y="486900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7697880" y="42498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7697880" y="4869000"/>
            <a:ext cx="79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95200" y="747720"/>
            <a:ext cx="8553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343080" y="839880"/>
            <a:ext cx="8458200" cy="58291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2556000" y="836640"/>
            <a:ext cx="604836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2556000" y="1413000"/>
            <a:ext cx="604836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2700360" y="2017800"/>
            <a:ext cx="604836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2700360" y="2593800"/>
            <a:ext cx="604836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6"/>
          <a:stretch/>
        </p:blipFill>
        <p:spPr>
          <a:xfrm>
            <a:off x="2484360" y="3170160"/>
            <a:ext cx="604836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7"/>
          <a:stretch/>
        </p:blipFill>
        <p:spPr>
          <a:xfrm>
            <a:off x="7740720" y="38386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8"/>
          <a:stretch/>
        </p:blipFill>
        <p:spPr>
          <a:xfrm>
            <a:off x="3132000" y="46814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9"/>
          <a:stretch/>
        </p:blipFill>
        <p:spPr>
          <a:xfrm>
            <a:off x="5867280" y="4724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0"/>
          <a:stretch/>
        </p:blipFill>
        <p:spPr>
          <a:xfrm>
            <a:off x="5796000" y="5172120"/>
            <a:ext cx="936720" cy="3841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1"/>
          <a:stretch/>
        </p:blipFill>
        <p:spPr>
          <a:xfrm>
            <a:off x="4716360" y="5603760"/>
            <a:ext cx="936720" cy="3841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2"/>
          <a:stretch/>
        </p:blipFill>
        <p:spPr>
          <a:xfrm>
            <a:off x="7020000" y="6035760"/>
            <a:ext cx="108108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8373" descr=""/>
          <p:cNvPicPr/>
          <p:nvPr/>
        </p:nvPicPr>
        <p:blipFill>
          <a:blip r:embed="rId1"/>
          <a:stretch/>
        </p:blipFill>
        <p:spPr>
          <a:xfrm>
            <a:off x="447840" y="1576440"/>
            <a:ext cx="8248320" cy="37051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6156360" y="2563920"/>
            <a:ext cx="201600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6084720" y="3500280"/>
            <a:ext cx="201636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6156360" y="4437000"/>
            <a:ext cx="201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7352" descr=""/>
          <p:cNvPicPr/>
          <p:nvPr/>
        </p:nvPicPr>
        <p:blipFill>
          <a:blip r:embed="rId1"/>
          <a:stretch/>
        </p:blipFill>
        <p:spPr>
          <a:xfrm>
            <a:off x="795240" y="762120"/>
            <a:ext cx="7553520" cy="57625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5867280" y="865080"/>
            <a:ext cx="237672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5867280" y="1830240"/>
            <a:ext cx="237672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5867280" y="2736720"/>
            <a:ext cx="237672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5796000" y="3933720"/>
            <a:ext cx="237636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6"/>
          <a:stretch/>
        </p:blipFill>
        <p:spPr>
          <a:xfrm>
            <a:off x="5796000" y="4913280"/>
            <a:ext cx="237636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7"/>
          <a:stretch/>
        </p:blipFill>
        <p:spPr>
          <a:xfrm>
            <a:off x="5796000" y="5805360"/>
            <a:ext cx="237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6324" descr=""/>
          <p:cNvPicPr/>
          <p:nvPr/>
        </p:nvPicPr>
        <p:blipFill>
          <a:blip r:embed="rId1"/>
          <a:stretch/>
        </p:blipFill>
        <p:spPr>
          <a:xfrm>
            <a:off x="299880" y="1071720"/>
            <a:ext cx="8544240" cy="4714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2987640" y="3268800"/>
            <a:ext cx="273672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3059280" y="5214960"/>
            <a:ext cx="3528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5300" descr=""/>
          <p:cNvPicPr/>
          <p:nvPr/>
        </p:nvPicPr>
        <p:blipFill>
          <a:blip r:embed="rId1"/>
          <a:stretch/>
        </p:blipFill>
        <p:spPr>
          <a:xfrm>
            <a:off x="590400" y="1471680"/>
            <a:ext cx="7963200" cy="39146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2627280" y="2852640"/>
            <a:ext cx="532944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2556000" y="4854600"/>
            <a:ext cx="532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4277" descr=""/>
          <p:cNvPicPr/>
          <p:nvPr/>
        </p:nvPicPr>
        <p:blipFill>
          <a:blip r:embed="rId1"/>
          <a:stretch/>
        </p:blipFill>
        <p:spPr>
          <a:xfrm>
            <a:off x="216000" y="95400"/>
            <a:ext cx="2987640" cy="885600"/>
          </a:xfrm>
          <a:prstGeom prst="rect">
            <a:avLst/>
          </a:prstGeom>
          <a:ln w="0">
            <a:noFill/>
          </a:ln>
        </p:spPr>
      </p:pic>
      <p:grpSp>
        <p:nvGrpSpPr>
          <p:cNvPr id="954" name="组合 54279"/>
          <p:cNvGrpSpPr/>
          <p:nvPr/>
        </p:nvGrpSpPr>
        <p:grpSpPr>
          <a:xfrm>
            <a:off x="357120" y="941400"/>
            <a:ext cx="8429760" cy="5829120"/>
            <a:chOff x="357120" y="941400"/>
            <a:chExt cx="8429760" cy="5829120"/>
          </a:xfrm>
        </p:grpSpPr>
        <p:pic>
          <p:nvPicPr>
            <p:cNvPr id="955" name="图片 54276" descr=""/>
            <p:cNvPicPr/>
            <p:nvPr/>
          </p:nvPicPr>
          <p:blipFill>
            <a:blip r:embed="rId2"/>
            <a:stretch/>
          </p:blipFill>
          <p:spPr>
            <a:xfrm>
              <a:off x="357120" y="941400"/>
              <a:ext cx="8429760" cy="582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图片 54278" descr=""/>
            <p:cNvPicPr/>
            <p:nvPr/>
          </p:nvPicPr>
          <p:blipFill>
            <a:blip r:embed="rId3"/>
            <a:stretch/>
          </p:blipFill>
          <p:spPr>
            <a:xfrm>
              <a:off x="4322880" y="2133720"/>
              <a:ext cx="1917720" cy="446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直接连接符 54280"/>
          <p:cNvSpPr/>
          <p:nvPr/>
        </p:nvSpPr>
        <p:spPr>
          <a:xfrm>
            <a:off x="4356000" y="2421000"/>
            <a:ext cx="1944720" cy="3887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直接连接符 54281"/>
          <p:cNvSpPr/>
          <p:nvPr/>
        </p:nvSpPr>
        <p:spPr>
          <a:xfrm>
            <a:off x="4356000" y="3645000"/>
            <a:ext cx="1871640" cy="1368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直接连接符 54282"/>
          <p:cNvSpPr/>
          <p:nvPr/>
        </p:nvSpPr>
        <p:spPr>
          <a:xfrm flipV="1">
            <a:off x="4356000" y="3644640"/>
            <a:ext cx="1871640" cy="1368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直接连接符 54283"/>
          <p:cNvSpPr/>
          <p:nvPr/>
        </p:nvSpPr>
        <p:spPr>
          <a:xfrm flipV="1">
            <a:off x="4356000" y="2276640"/>
            <a:ext cx="1871640" cy="3960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2231" descr=""/>
          <p:cNvPicPr/>
          <p:nvPr/>
        </p:nvPicPr>
        <p:blipFill>
          <a:blip r:embed="rId1"/>
          <a:stretch/>
        </p:blipFill>
        <p:spPr>
          <a:xfrm>
            <a:off x="314280" y="976320"/>
            <a:ext cx="8515440" cy="49053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2556000" y="5127480"/>
            <a:ext cx="237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18:3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